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0287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4080" y="368208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5816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442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44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40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442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744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4080" y="273600"/>
            <a:ext cx="9257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5816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28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0680" y="0"/>
            <a:ext cx="365040" cy="6845400"/>
          </a:xfrm>
          <a:prstGeom prst="rect">
            <a:avLst/>
          </a:prstGeom>
          <a:solidFill>
            <a:srgbClr val="f2f2f2"/>
          </a:solidFill>
          <a:ln w="12600">
            <a:solidFill>
              <a:srgbClr val="dadad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839880"/>
            <a:ext cx="10274400" cy="363600"/>
          </a:xfrm>
          <a:prstGeom prst="rect">
            <a:avLst/>
          </a:prstGeom>
          <a:solidFill>
            <a:srgbClr val="f2f2f2"/>
          </a:solidFill>
          <a:ln w="12600">
            <a:solidFill>
              <a:srgbClr val="dadad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9040" y="0"/>
            <a:ext cx="363600" cy="6845400"/>
          </a:xfrm>
          <a:prstGeom prst="rect">
            <a:avLst/>
          </a:prstGeom>
          <a:solidFill>
            <a:srgbClr val="f2f2f2"/>
          </a:solidFill>
          <a:ln w="12600">
            <a:solidFill>
              <a:srgbClr val="dadad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372960"/>
            <a:ext cx="10274400" cy="363600"/>
          </a:xfrm>
          <a:prstGeom prst="rect">
            <a:avLst/>
          </a:prstGeom>
          <a:solidFill>
            <a:srgbClr val="f2f2f2"/>
          </a:solidFill>
          <a:ln w="12600">
            <a:solidFill>
              <a:srgbClr val="dadad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0680" y="0"/>
            <a:ext cx="365040" cy="846000"/>
          </a:xfrm>
          <a:prstGeom prst="rect">
            <a:avLst/>
          </a:prstGeom>
          <a:solidFill>
            <a:srgbClr val="f2f2f2"/>
          </a:solidFill>
          <a:ln w="12600">
            <a:solidFill>
              <a:srgbClr val="dadad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8494560" y="6573960"/>
            <a:ext cx="133524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QOSPF - QOSR BoF  </a:t>
            </a:r>
            <a:fld id="{0A95D9E1-530C-4241-91E8-31C01155653C}" type="slidenum"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654960" y="5931000"/>
            <a:ext cx="3187800" cy="622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0"/>
            <a:ext cx="10274400" cy="6845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00280" y="2286000"/>
            <a:ext cx="8686800" cy="173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OSPF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ality of Service Extensions to OSFP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ality of Service Path First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6204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ric S. Craw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y Networks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c@baynetwork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y are Resource Reserved Advertisement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30400" y="158112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to save tree state someh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adding new members and knowing what branches are currently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new resource available advertisements don’t affect paths currently in use (AKA “Stepping on your own Shadow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cal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30400" y="158112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 Available LSAs can be sent out too frequ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:  Use watermarks and/or resource reserved &gt; resource available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 Reserved Advertisements are flooded for every link on source-&gt;destination path generated on receipt of RE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:  Explicit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168560" y="285840"/>
            <a:ext cx="87552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licit Routing (EROSP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168560" y="1028880"/>
            <a:ext cx="8782200" cy="41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outer, usually the source router, computes the QoS route path from source-&gt;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oute computation is passed down the tree using opaque LSAs (Explicit Route Advertisements, E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RAs encode the route in such a way that no recomputation is necessary for each router along the pa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es can be broken up into multiple ERAs to avoid MTU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 Reserved Advertisements need only be sent back to the computing/source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ushing ERAs are used to remove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168560" y="190440"/>
            <a:ext cx="87552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licit Routing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16040" y="203040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552760" y="134604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658880" y="296388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125880" y="294480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3583080" y="395460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1219320" y="384192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3238560" y="488952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4133880" y="4870440"/>
            <a:ext cx="415800" cy="4255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705040" y="1752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866960" y="251460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57680" y="2514600"/>
            <a:ext cx="5331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7188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409760" y="342900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43480" y="3429000"/>
            <a:ext cx="30456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390840" y="44197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00680" y="441972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994120" y="1393920"/>
            <a:ext cx="78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89000" y="4289400"/>
            <a:ext cx="727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cv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70080" y="5280120"/>
            <a:ext cx="727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cv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84480" y="5280120"/>
            <a:ext cx="727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cv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822920" y="1317600"/>
            <a:ext cx="52736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RCVRs 1,2,&amp;3 have joined group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RSVP PATH Message sent  from sender to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R1 Computes QoS Path to  RCVRs 1,2,&amp;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 Link L1 does not have adequate resources for flo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sed on RSVP T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Tree is computed using L2, L3, and L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R1 sends ERA to R3 with subtree of R2 and 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R3 installs ERA state and sends ERAs to R2 and 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Process is repeated on R2 and R4 installing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 Rcvrs send RESV message back toward sender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erving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 Routers send Resource reserved advertisements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ly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indicating the resources used for the Source, Gro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994120" y="2155680"/>
            <a:ext cx="411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079720" y="3222720"/>
            <a:ext cx="411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603600" y="3222720"/>
            <a:ext cx="411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060800" y="4213080"/>
            <a:ext cx="411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079720" y="253692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146400" y="253692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460600" y="299412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79920" y="360360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SPF/MOSPF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130400" y="158112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 Available L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 Reservation Adverti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icit Route Adverti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rder Router Adverti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e Computation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ource Available LSA (RES-L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23880" y="1422360"/>
            <a:ext cx="5537160" cy="4457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6880320" y="1347840"/>
            <a:ext cx="3292560" cy="33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oded through Are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ken Bucket parameter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single precisio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loating point (IntServ std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k Delay is used in pla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OS 0 metric for Qo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oute calcul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ld be expanded fo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ther servic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ource Reservation Advertisement (R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06360" y="1359000"/>
            <a:ext cx="5410080" cy="5181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6346800" y="2239920"/>
            <a:ext cx="36734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ooded “Area Local” without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ooded “No Flooding”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“Link Local” with 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urce and Destination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IP source and destin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in Flag indicates wheth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route pinning has be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reques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licit Route Advertisement (E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130800" y="1352520"/>
            <a:ext cx="396540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Flooding”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RA header indicates source-&gt; destinati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RA body encodes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just Offset is used to avoid recomputing offsets for subsequent 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ild offset indicates next child in fo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SA Age = MAXAGE indicates flushing L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079640" y="1523880"/>
            <a:ext cx="4915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rder Router Advertisement (DAB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362640" y="1581120"/>
            <a:ext cx="354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cates to “downstream” areas how to root a tree (which area border router to use) for source-&gt;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ooded to all downstream areas from borders that receive flow without 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t only to border routers on path with 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28880" y="1447920"/>
            <a:ext cx="53085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ute Computation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130400" y="158112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pology Change - all routes recomputed (conventional or Q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t use RRAs to determine resources used by current path and pinne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MOSPF Group Membership L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RES-LSAs - all QoS routes recomp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RRAs - all QoS routes related to the RRAs recomp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DABRAs- all QoS routes related to the DABRAs recomp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30400" y="158112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col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al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main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282680" y="3430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cas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63600" y="152388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ing members/branches can be tricky so you don’t “avoid your own shadow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t know where current distribution tree p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rder router issues are inter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ough information to prevent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too much to keep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s may be very different for shared tree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domain solutions will be very interesting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ssible RSVP Ad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30400" y="158112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e pinning flag so receivers can request a “pinned”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sible length of time to pin a ro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ication that a RESV differs from a PATH to help determine if recalculation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main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30400" y="158112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cast can possible suffer from route loops if packets “fall off” the QoS computed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y need to tag or mark packets on QoS paths to note different treatment (TOS bits or Flow I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packets “fall off” QoS path mark is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to think through other RSVP reservation styles (SE &amp; W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more experience, simulation, and rea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68560" y="1333440"/>
            <a:ext cx="8782200" cy="41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ustomer asked us to combine MOSPF and RSVP to provide Quality of Service routing in a WAN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WAN was mostly T-1 links but sufficiently redundant that there were multiple paths between multicast sources and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pplication closely matched the “Cable TV” type of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gle 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receivers coming and 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t receiver JOIN times needed (&lt; 2 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149480" y="266760"/>
            <a:ext cx="8755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14640" y="2610000"/>
            <a:ext cx="419040" cy="15429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477280" y="2743200"/>
            <a:ext cx="419040" cy="15429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38800" y="4705200"/>
            <a:ext cx="1962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81560" y="1752480"/>
            <a:ext cx="1962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59120" y="311616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64200" y="235440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659720" y="326880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240160" y="399240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9239400" y="264168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9239400" y="327024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9239400" y="389880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1467000" y="256536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1467000" y="319392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1467000" y="382284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4343400" y="128916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2"/>
          <a:stretch/>
        </p:blipFill>
        <p:spPr>
          <a:xfrm>
            <a:off x="5124600" y="127008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5905440" y="125100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4514760" y="532764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5"/>
          <a:stretch/>
        </p:blipFill>
        <p:spPr>
          <a:xfrm>
            <a:off x="5295960" y="530856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6"/>
          <a:stretch/>
        </p:blipFill>
        <p:spPr>
          <a:xfrm>
            <a:off x="6076800" y="5289480"/>
            <a:ext cx="415800" cy="425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705640" y="2616120"/>
            <a:ext cx="2219760" cy="679680"/>
          </a:xfrm>
          <a:custGeom>
            <a:avLst/>
            <a:gdLst/>
            <a:ahLst/>
            <a:rect l="0" t="0" r="r" b="b"/>
            <a:pathLst>
              <a:path fill="none" w="6166" h="1888">
                <a:moveTo>
                  <a:pt x="6166" y="1888"/>
                </a:moveTo>
                <a:lnTo>
                  <a:pt x="2871" y="740"/>
                </a:lnTo>
                <a:lnTo>
                  <a:pt x="3215" y="1121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19320" y="3645000"/>
            <a:ext cx="2219760" cy="679680"/>
          </a:xfrm>
          <a:custGeom>
            <a:avLst/>
            <a:gdLst/>
            <a:ahLst/>
            <a:rect l="0" t="0" r="r" b="b"/>
            <a:pathLst>
              <a:path fill="none" w="6166" h="1888">
                <a:moveTo>
                  <a:pt x="6166" y="1888"/>
                </a:moveTo>
                <a:lnTo>
                  <a:pt x="2871" y="740"/>
                </a:lnTo>
                <a:lnTo>
                  <a:pt x="3215" y="1121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09920" y="339084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29160" y="2895480"/>
            <a:ext cx="0" cy="108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62240" y="2563920"/>
            <a:ext cx="1991160" cy="560880"/>
          </a:xfrm>
          <a:custGeom>
            <a:avLst/>
            <a:gdLst/>
            <a:ahLst/>
            <a:rect l="0" t="0" r="r" b="b"/>
            <a:pathLst>
              <a:path fill="none" w="5531" h="1558">
                <a:moveTo>
                  <a:pt x="5531" y="0"/>
                </a:moveTo>
                <a:lnTo>
                  <a:pt x="2474" y="785"/>
                </a:lnTo>
                <a:lnTo>
                  <a:pt x="2977" y="790"/>
                </a:lnTo>
                <a:lnTo>
                  <a:pt x="0" y="155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72240" y="3782880"/>
            <a:ext cx="1991160" cy="560880"/>
          </a:xfrm>
          <a:custGeom>
            <a:avLst/>
            <a:gdLst/>
            <a:ahLst/>
            <a:rect l="0" t="0" r="r" b="b"/>
            <a:pathLst>
              <a:path fill="none" w="5531" h="1558">
                <a:moveTo>
                  <a:pt x="5531" y="0"/>
                </a:moveTo>
                <a:lnTo>
                  <a:pt x="2474" y="785"/>
                </a:lnTo>
                <a:lnTo>
                  <a:pt x="2977" y="790"/>
                </a:lnTo>
                <a:lnTo>
                  <a:pt x="0" y="155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29160" y="2152800"/>
            <a:ext cx="0" cy="209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453384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52760" y="3409920"/>
            <a:ext cx="323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10520" y="350532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1695600"/>
            <a:ext cx="0" cy="5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33840" y="1714680"/>
            <a:ext cx="133560" cy="9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058080" y="1676520"/>
            <a:ext cx="75960" cy="114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66960" y="295272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66960" y="35622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886040" y="3962520"/>
            <a:ext cx="285840" cy="209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8877240" y="3029040"/>
            <a:ext cx="381240" cy="38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8896320" y="3543480"/>
            <a:ext cx="343080" cy="114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8877240" y="3867120"/>
            <a:ext cx="3621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686480" y="5067360"/>
            <a:ext cx="152280" cy="266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467320" y="5086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6095880" y="5048280"/>
            <a:ext cx="171720" cy="247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19480" y="4133880"/>
            <a:ext cx="1162440" cy="762480"/>
          </a:xfrm>
          <a:custGeom>
            <a:avLst/>
            <a:gdLst/>
            <a:ahLst/>
            <a:rect l="0" t="0" r="r" b="b"/>
            <a:pathLst>
              <a:path fill="none" w="3229" h="2118">
                <a:moveTo>
                  <a:pt x="0" y="2118"/>
                </a:moveTo>
                <a:lnTo>
                  <a:pt x="0" y="2118"/>
                </a:lnTo>
                <a:cubicBezTo>
                  <a:pt x="567" y="2118"/>
                  <a:pt x="1124" y="2020"/>
                  <a:pt x="1615" y="1834"/>
                </a:cubicBezTo>
                <a:cubicBezTo>
                  <a:pt x="2105" y="1648"/>
                  <a:pt x="2513" y="1381"/>
                  <a:pt x="2796" y="1059"/>
                </a:cubicBezTo>
                <a:cubicBezTo>
                  <a:pt x="3080" y="737"/>
                  <a:pt x="3229" y="372"/>
                  <a:pt x="3229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93800" y="4632480"/>
            <a:ext cx="979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Arial"/>
              </a:rPr>
              <a:t>T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Arial"/>
              </a:rPr>
              <a:t>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17600" y="2308320"/>
            <a:ext cx="78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956800" y="2346480"/>
            <a:ext cx="925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60680" y="1527120"/>
            <a:ext cx="15778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Resource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t available 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ual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57680" y="2038320"/>
            <a:ext cx="1924560" cy="1295640"/>
          </a:xfrm>
          <a:custGeom>
            <a:avLst/>
            <a:gdLst/>
            <a:ahLst/>
            <a:rect l="0" t="0" r="r" b="b"/>
            <a:pathLst>
              <a:path fill="none" w="5346" h="3599">
                <a:moveTo>
                  <a:pt x="5346" y="3599"/>
                </a:moveTo>
                <a:lnTo>
                  <a:pt x="5346" y="3599"/>
                </a:lnTo>
                <a:lnTo>
                  <a:pt x="5346" y="3599"/>
                </a:lnTo>
                <a:cubicBezTo>
                  <a:pt x="5346" y="2967"/>
                  <a:pt x="5099" y="2347"/>
                  <a:pt x="4630" y="1799"/>
                </a:cubicBezTo>
                <a:cubicBezTo>
                  <a:pt x="4161" y="1252"/>
                  <a:pt x="3486" y="798"/>
                  <a:pt x="2673" y="482"/>
                </a:cubicBezTo>
                <a:cubicBezTo>
                  <a:pt x="1860" y="166"/>
                  <a:pt x="938" y="0"/>
                  <a:pt x="0" y="0"/>
                </a:cubicBezTo>
              </a:path>
            </a:pathLst>
          </a:custGeom>
          <a:ln w="25560">
            <a:solidFill>
              <a:srgbClr val="000000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80320" y="1736640"/>
            <a:ext cx="222876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 path is calculated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as the resource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pport the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81520" y="2209680"/>
            <a:ext cx="2153160" cy="438480"/>
          </a:xfrm>
          <a:custGeom>
            <a:avLst/>
            <a:gdLst/>
            <a:ahLst/>
            <a:rect l="0" t="0" r="r" b="b"/>
            <a:pathLst>
              <a:path fill="none" w="5981" h="1218">
                <a:moveTo>
                  <a:pt x="5981" y="0"/>
                </a:moveTo>
                <a:lnTo>
                  <a:pt x="5981" y="0"/>
                </a:lnTo>
                <a:cubicBezTo>
                  <a:pt x="4931" y="0"/>
                  <a:pt x="3900" y="56"/>
                  <a:pt x="2990" y="163"/>
                </a:cubicBezTo>
                <a:cubicBezTo>
                  <a:pt x="2081" y="270"/>
                  <a:pt x="1326" y="424"/>
                  <a:pt x="801" y="609"/>
                </a:cubicBezTo>
                <a:cubicBezTo>
                  <a:pt x="276" y="794"/>
                  <a:pt x="0" y="1004"/>
                  <a:pt x="0" y="1218"/>
                </a:cubicBezTo>
              </a:path>
            </a:pathLst>
          </a:custGeom>
          <a:ln w="25560">
            <a:solidFill>
              <a:srgbClr val="000000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2362320"/>
            <a:ext cx="572040" cy="457560"/>
          </a:xfrm>
          <a:custGeom>
            <a:avLst/>
            <a:gdLst/>
            <a:ahLst/>
            <a:rect l="0" t="0" r="r" b="b"/>
            <a:pathLst>
              <a:path fill="none" w="1589" h="1271">
                <a:moveTo>
                  <a:pt x="1589" y="0"/>
                </a:moveTo>
                <a:lnTo>
                  <a:pt x="1589" y="0"/>
                </a:lnTo>
                <a:cubicBezTo>
                  <a:pt x="1310" y="0"/>
                  <a:pt x="1036" y="59"/>
                  <a:pt x="794" y="170"/>
                </a:cubicBezTo>
                <a:cubicBezTo>
                  <a:pt x="553" y="282"/>
                  <a:pt x="352" y="442"/>
                  <a:pt x="213" y="636"/>
                </a:cubicBezTo>
                <a:cubicBezTo>
                  <a:pt x="73" y="829"/>
                  <a:pt x="0" y="1048"/>
                  <a:pt x="0" y="1271"/>
                </a:cubicBezTo>
              </a:path>
            </a:pathLst>
          </a:custGeom>
          <a:ln w="25560">
            <a:solidFill>
              <a:srgbClr val="000000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sic Protocol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30400" y="158112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work resources are advertised to th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igger event causes calculation of QoS route (demand driv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SVP messages containing resour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oS route is computed as needed by routers on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ification of actual reservation of resources to assure that path computation was correct and “store sta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oS route is removed when trigger events disappear (RSVP PATH state times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tocol Overview:  Resource Adverti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68560" y="133344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OSPF LSAs for advertising router link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d Load Model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ertise Largest chunk of reservable B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ertise Largest buffer/burst reser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ach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service models/parameters can/should be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s information for QoS routing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035000" y="285840"/>
            <a:ext cx="87552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tocol Overview:  Route Com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68560" y="1238400"/>
            <a:ext cx="8782200" cy="431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oS Dijkstra calculation triggered by receipt of new RSVP PATH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triggers such as different signaling protocols and flow thresholds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cast uses Group Membership LSAs for member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oS route computed for Source-&gt;Destination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mean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raffic for Source-&gt;Destination pair is routed on same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Links with adequate resources are used for Dijk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very to best-effort path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tocol Overview:  Confirmation/Re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30400" y="158112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cess on RESV triggers Opaque LSA indicating reservation on link for Source-&gt;Destination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mputation could occur on RESV if resources different from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es may be pinned (e.g. not changed by new links or more resources becoming avail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resource LSAs (reserved and available) and topology changes cause recalculation favoring links currently reserved for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168560" y="190440"/>
            <a:ext cx="87552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16040" y="203040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52760" y="134604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658880" y="296388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125880" y="294480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583080" y="395460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1219320" y="384192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3238560" y="488952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4133880" y="4870440"/>
            <a:ext cx="415800" cy="425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705040" y="1752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866960" y="251460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514600"/>
            <a:ext cx="5331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7188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409760" y="342900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43480" y="3429000"/>
            <a:ext cx="30456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390840" y="44197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00680" y="441972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994120" y="1393920"/>
            <a:ext cx="78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89000" y="4289400"/>
            <a:ext cx="727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cv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70080" y="5280120"/>
            <a:ext cx="727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cv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84480" y="5280120"/>
            <a:ext cx="727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cv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822920" y="1317600"/>
            <a:ext cx="5273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RCVRs 1,2,&amp;3 have joined group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RSVP PATH Message sent  from sender to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R1 Computes QoS Path to  RCVRs 1,2,&amp;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 Link L1 does not have adequate resources for flo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sed on RSVP T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Tree is computed using L2, L3, and L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rocess is repeated for R2, R3, and R4 as PATH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vels down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 Rcvrs send RESV message back toward sender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erving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 Routers send Resource reserved advertis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dicating the resources used for the Source, Group 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 If significant resources are used, routers send n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ource Available advertis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994120" y="2155680"/>
            <a:ext cx="411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079720" y="3222720"/>
            <a:ext cx="411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603600" y="3222720"/>
            <a:ext cx="411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0800" y="4213080"/>
            <a:ext cx="411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079720" y="253692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146400" y="253692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460600" y="299412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679920" y="360360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eferred Customer</cp:lastModifiedBy>
  <cp:revision>0</cp:revision>
  <dc:subject/>
  <dc:title>QOSPF and QoSR</dc:title>
</cp:coreProperties>
</file>